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9E17-5E03-4DD0-B9F0-48C4D907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E953-DE78-4B55-A011-704A6BC1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E6AD-5989-4399-A8FB-F6A552A9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0379-257C-4E7A-8D18-05D3089C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F98F-A9EF-4B7D-A662-1F8AF62F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0C4D-CB72-44BC-827E-F32E849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469A-3ACC-4450-9FB8-A81CA97F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9FFB-B552-4EAB-9D4B-6FCFA37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B5B-892A-4605-9864-69AEEC2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97ED-A826-4CD9-9FA2-BF17076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A4A-FCF9-427F-AB90-193807E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90A1-22B6-4610-862B-53F8E66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4BF6-6C7F-4B9A-989D-AFAC9FB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664-3A51-4E1C-BF79-6320C94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EE6C-6563-45CA-A59E-A510B8D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25B6-32F5-4231-BB89-AD408BD9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676C-535C-4837-8256-1010E2D7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84E4-6879-4BF8-8AF7-76A3D5CD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A672-6A61-4F5A-8065-EFFD88B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2DDF-E6A4-4BCE-BA14-5C8A51B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814E-FA6E-49D1-9550-2F83D896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1CE5-FC9A-4A8F-A3C6-11106FC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BE89-FBB7-41CD-A083-1CD4918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508D-207A-4DC9-A9D4-E592624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BDE-C8C9-486E-8ED0-4B41C875CDB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E97C-D739-4DF5-A0F3-FEEA030BEF9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304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7 (37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олко скъп е тоз Прия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лко силен наший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реховете ни отнем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си всяка скръб з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дна благодат ни д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еземна веселб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явяваме пред Б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о нещо чрез молб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Щом нападнат изкуш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заплашват те бе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не се обезсърчава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молитва прибег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лко пъти ние без нуж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убим мир и веселб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о не явим пред Б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о нещо чрез молб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оже ли да се намер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якъде по цел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руг Приятел толкоз вер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о тоз от Назаре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жалява наш'та слабо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жда всяка ни бе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явяваме пред Б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яко нещо чрез молб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5:01:22Z</dcterms:modified>
  <cp:revision>111</cp:revision>
  <dc:subject/>
  <dc:title>Slide 1</dc:title>
</cp:coreProperties>
</file>